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C6B-AE1F-45FB-8D6C-81095746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5E2-AC0F-4A46-A0D2-57E50683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67D-652E-4122-BE20-DD3B64A5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2DA-FF45-499D-9F5C-167092D8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1C7-7E7A-40EB-B89D-AEF58D89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755-21B0-4A18-BA34-C563D191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046-A2E5-4293-AA74-F92EB513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6E5-7705-4690-9AE0-0133379C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6DB-1F58-4996-ABCC-16E21739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6B2-8C6A-4837-9EF7-ACB023C2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AB1-56C2-4072-9B9A-DABDF199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5BA-423D-43F1-81BC-D13EDB8E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B072-5852-4A0E-A40B-564E0AA72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Alex Kreher and Angelo Catal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Aztecs+ Maya+ Incas\ conquistad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1f6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ztec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apital was Tenochtit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tecs were brought down by small p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polytheistic, which means that they believe in many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lived in South America, the Andes Mts., P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elieved in a pale-skinned god named Quetzalcoa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81280" cy="2927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9760" y="649116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.wikipedia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4495680" cy="291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17520" y="649116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moyer.pbwork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lived in Mexico on the Yucatan penins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on did not contain as much g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just one major city it was much harder to overth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slaves, who could sometimes gain their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Polythei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10200" y="3352680"/>
            <a:ext cx="493380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7720" y="63244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ancountdown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3581640" cy="2361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2160" y="643716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xicotravelplan.co.u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7543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ytheistic=belief in many go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written language, but had sp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ticed animal sacrifice, and on special occasions human sacrifice (childre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ital was Cuz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ir civilization was in South America, An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ts.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had in a civil war which made it easier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qu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96720" y="649116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worldencyclopedia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213336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8160" y="649116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viahartmann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819520" y="3886200"/>
            <a:ext cx="2743200" cy="2590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60120" y="6491160"/>
            <a:ext cx="11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cp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63248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a Spanish explorer and Conquist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zarro conquered the In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eld the Aztecs’ ruler Atahulpa for ransom, and after they handed over the gold, he killed Atahul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95480" cy="4686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010280" y="5943600"/>
            <a:ext cx="151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3886200" cy="2361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8200" y="649044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hantedlearning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2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84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88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1f6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a Spanish explorer and conquis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conquered the Azte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ez took Montezuma, the Aztec king,  ho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ucceeded conquering the Incas by tricking them into thinking he was Quetzalcoat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2286000" cy="2428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5000" y="62485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freedictionary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940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15000" y="3276720"/>
            <a:ext cx="3086280" cy="3038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48320" y="4724280"/>
            <a:ext cx="1523880" cy="457200"/>
          </a:xfrm>
          <a:prstGeom prst="rightArrow">
            <a:avLst>
              <a:gd name="adj1" fmla="val 45139"/>
              <a:gd name="adj2" fmla="val 805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38840" y="5105520"/>
            <a:ext cx="152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Tenochtil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The Azt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capit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9120" y="632376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timore.about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167 3.7037E-007 L 3.33333E-006 3.7037E-007 E">
                                      <p:cBhvr>
                                        <p:cTn id="167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ere Central and South America changed forever by Spanish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eople speak Spanish in Central and South Amer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the southern Americas are Christ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ztec, Maya, and Incas’ traditions have mostly disappea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16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8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64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90720" y="609480"/>
            <a:ext cx="7238880" cy="563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!!!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47:54Z</dcterms:created>
  <dc:creator>jklib</dc:creator>
  <dc:description/>
  <dc:language>en-US</dc:language>
  <cp:lastModifiedBy>jklib</cp:lastModifiedBy>
  <dcterms:modified xsi:type="dcterms:W3CDTF">2011-11-28T16:19:58Z</dcterms:modified>
  <cp:revision>6</cp:revision>
  <dc:subject/>
  <dc:title>Aztecs+ Maya+ Incas\ conquistadors </dc:title>
</cp:coreProperties>
</file>